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AC7-957C-4963-8F55-838BA235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702-6681-43F4-99F8-247161B2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44F-CB8D-4942-9E1C-5139F970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1C6-5183-4B77-9A52-F96D2FB2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C51-C175-4513-887C-5FBABB01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5B7-241A-496C-A537-3256A67E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17F-728C-4350-B515-8B98B3BC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01E-FB5E-4587-81DA-B3BA290C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AD4-A0C9-4747-8416-20C75B60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FD4-FC4F-40E7-B6C8-A356EE22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E6E-5408-44B0-B4A8-884108D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F23-664C-4CA6-81FB-CE1DCF4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10/7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footer&gt;</a:t>
            </a: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Triag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9FF4-ADFE-4A35-82B4-4C0BC0AF563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Franklin Gothic Book"/>
              </a:rPr>
              <a:t>Emory Johns Creek – Triag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ge is a process, not a place.”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k White,RN Director of Emergency Room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ly triage in one large, rectangular room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ipment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and print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 and small stretch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sign machine (portable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G (portable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 (baby and adult), height cha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s with suppl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ge nurse is responsible for observing waiting room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riage space is not functionally designed to efficiently meet the needs of acuity adaptability, patient volume, clinician responsibility, and maintain regulatory requirement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48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746-923A-432C-B74C-CFFA94F87C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144792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ge Nurse cannot see the WR from Triage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registration and Triage process are not synch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r in the Triage room is never us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second room for Triage – sometimes use the family waiting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on walls was too hig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 close the blinds during 3 triag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walls as opposed to curtai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rush – use alternate triage metho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bathroom in the larger Triage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ks need to be near or in Triage are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wheelchair acces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54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sues and Observ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457-F49C-485A-AE61-C0A6B7B0EE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iage Equip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60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3327480" cy="249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21951" t="13008" r="24390" b="2441"/>
          <a:stretch/>
        </p:blipFill>
        <p:spPr>
          <a:xfrm>
            <a:off x="152280" y="3429000"/>
            <a:ext cx="225756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593040" y="274680"/>
            <a:ext cx="2495520" cy="3327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rcRect l="6667" t="8890" r="6667" b="0"/>
          <a:stretch/>
        </p:blipFill>
        <p:spPr>
          <a:xfrm>
            <a:off x="2209680" y="3746520"/>
            <a:ext cx="3124440" cy="2463840"/>
          </a:xfrm>
          <a:prstGeom prst="rect">
            <a:avLst/>
          </a:prstGeom>
          <a:ln w="0">
            <a:noFill/>
          </a:ln>
        </p:spPr>
      </p:pic>
      <p:sp>
        <p:nvSpPr>
          <p:cNvPr id="67" name="Content Placeholder 5"/>
          <p:cNvSpPr/>
          <p:nvPr/>
        </p:nvSpPr>
        <p:spPr>
          <a:xfrm>
            <a:off x="152280" y="1447920"/>
            <a:ext cx="4191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vital sign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E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s – Adult and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rcRect l="28890" t="11850" r="33337" b="0"/>
          <a:stretch/>
        </p:blipFill>
        <p:spPr>
          <a:xfrm>
            <a:off x="4616280" y="304920"/>
            <a:ext cx="187344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10D-54A3-455F-A3D2-0B781655B2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ige roo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320" y="1295280"/>
            <a:ext cx="8991360" cy="152280"/>
            <a:chOff x="76320" y="1295280"/>
            <a:chExt cx="8991360" cy="152280"/>
          </a:xfrm>
        </p:grpSpPr>
        <p:sp>
          <p:nvSpPr>
            <p:cNvPr id="71" name=""/>
            <p:cNvSpPr/>
            <p:nvPr/>
          </p:nvSpPr>
          <p:spPr>
            <a:xfrm>
              <a:off x="76320" y="1371600"/>
              <a:ext cx="8991360" cy="0"/>
            </a:xfrm>
            <a:prstGeom prst="line">
              <a:avLst/>
            </a:prstGeom>
            <a:ln w="954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320" y="1295280"/>
              <a:ext cx="8991360" cy="0"/>
            </a:xfrm>
            <a:prstGeom prst="line">
              <a:avLst/>
            </a:prstGeom>
            <a:ln w="47520">
              <a:solidFill>
                <a:srgbClr val="e6b1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320" y="1447560"/>
              <a:ext cx="8991360" cy="0"/>
            </a:xfrm>
            <a:prstGeom prst="line">
              <a:avLst/>
            </a:prstGeom>
            <a:ln w="47520">
              <a:solidFill>
                <a:srgbClr val="918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lcik, Nair, &amp; Thompson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D08-C0C7-4018-9F99-0E2B5A177D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5:35:29Z</dcterms:created>
  <dc:creator>Kapil</dc:creator>
  <dc:description/>
  <dc:language>en-US</dc:language>
  <cp:lastModifiedBy>Thompson</cp:lastModifiedBy>
  <dcterms:modified xsi:type="dcterms:W3CDTF">2008-10-15T18:45:01Z</dcterms:modified>
  <cp:revision>31</cp:revision>
  <dc:subject/>
  <dc:title>Slide 1</dc:title>
</cp:coreProperties>
</file>